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4900-5ABA-4387-B8ED-D0DC80AFE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A559-74BB-43E3-9A4B-BB3C81FBCC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AAE-C619-4F9F-8790-8328264ED5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0574-FE48-49B8-BD99-1E54AAFD21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0DCB-7C90-47FD-8488-AAC8901EE5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4416-7440-44A1-819F-DBB576603B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6F9D-4A35-47F7-A795-996F14B542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5C5F-9165-49E9-AAF8-068FA77881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5C11-4ABD-4E07-B72E-ABDF0FF3A8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B7CE-D908-43DC-B038-35B8CF4533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DB5B-832E-4F7E-9CE3-5B838E4E94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15FF-FD4A-465E-983D-FFC5CCF76F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D6B-8A5C-4D7E-AAFD-3FA9057B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F2B-58D6-4D41-BFFF-2DE1A6C3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E1C-F17E-4F2F-8F92-185FC22A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6D1-132C-4567-A101-5A0D1245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7196-53C5-49F5-B1FC-615F0274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6195-9A71-478F-BB3A-8986C41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E7F8-932B-4936-AF0D-833C47A3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BBFC-570E-431A-B196-A851D22A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FC6C-7579-4303-9E5B-6E10ACF5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77A8-5177-403D-97F7-D408F10A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4C9E-C95C-43DE-87F2-C0EDAB9A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592-D576-4185-A92F-DD49C31C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17E3-B916-4665-918B-5045C30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27CF-D574-4C80-88C9-3401121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61C7-4C4A-49C8-B670-E8C1A6B5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2C10-F8B1-4B0F-9CC2-B7EFFF75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ED1E-043D-46B5-A9A1-5C6ED9BB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8D2-0321-4D4C-9813-310B67A3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D20-A36B-4985-A44E-AA33C52D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6E4-28E7-4259-B278-187967B5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31F-88DD-47D8-B17D-5BE37EE1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A10-1D04-49B9-B7D1-7C8CF84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AEA-223D-4620-8D00-8623CEC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2E5-0D93-4172-B23B-80FC1CEE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292C-6ED8-4809-B827-DC2EDDDA8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2388-A377-4484-980F-A485889EC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apes and design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: Vinny Andol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ndec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decagons are seen in everyday life because there is a Susan b. Anthony coin that is 11 sides. A hendecagon is a 11 sided figure. The angle sum of a hendecagon is 1620 degrees. Also all the exterior angles of a hendecagon is 33 degrees. Finally this shape could not be tiled very easi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9718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dec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ecagons are seen in everyday life because there is a coin I found that is 12 sided. A dodecagon is a 12 sided figure. The angle sum of a dodecagon is 1800 degrees. All the exterior angles of a dodecagon are 30 degrees. Also it would be hard to tile this sha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2286000" cy="2316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iang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gle sum of a triangle is 180 degrees and it had three sides. Also all the exterior angles of a triangle are 60 degrees. There are 3 different type of triangles. The are equilateral triangles, isosceles triangles and finally there is scalene triangles. A equilateral triangle is a triangle with all the sides are the same. A scalene triangle is a triangle with no sides that are equal. Then there is a isosceles triangle and there are two sides that are equal and other is differ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sosceles         Equilateral   Scale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 flipH="1">
            <a:off x="3428640" y="57913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3429000" y="6705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5257800" y="6477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9"/>
          <p:cNvSpPr/>
          <p:nvPr/>
        </p:nvSpPr>
        <p:spPr>
          <a:xfrm flipV="1">
            <a:off x="5257800" y="5714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4114800" y="57913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5715000" y="57150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17"/>
          <p:cNvSpPr/>
          <p:nvPr/>
        </p:nvSpPr>
        <p:spPr>
          <a:xfrm flipH="1">
            <a:off x="1676160" y="59436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1828800" y="5943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676520" y="6553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quare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quare has 4 sides. Squares are also equilaterals so in that case that means that they have four sides. A squares angle sum is 360 degrees. Also all exterior angles of a square are 90 degrees. Plus a square has both types of symmetry (Rotation and Reflection). This shape can also be tiled very easily. Also this shape is seen in everyday life because some TVs are squ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943600" y="4267080"/>
            <a:ext cx="2743200" cy="2438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09480" y="4224240"/>
            <a:ext cx="32767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ent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 pentagon has five sides. The angle sum of a pentagon is 540 degrees. You could find a pentagon In Washington because the famous building is called the pentagon. A pentagon could not tile easily because it is over lapped and leaves spaces. All the exterior angle of a pentagon are 108 degre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90720" y="4038480"/>
            <a:ext cx="2743200" cy="228600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the-pentagon-000"/>
          <p:cNvPicPr/>
          <p:nvPr/>
        </p:nvPicPr>
        <p:blipFill>
          <a:blip r:embed="rId1"/>
          <a:stretch/>
        </p:blipFill>
        <p:spPr>
          <a:xfrm>
            <a:off x="5486400" y="3733920"/>
            <a:ext cx="2898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x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xagon are seen a lot in honey combs. If you cut a honey comb in half you can actually see the little hexagons. The angle sum of a hexagon is 720 degrees. A hexagon has 6 sides. The measure of all the exterior angles of a hexagon is 120 degrees. Also a hexagon is able to tile very easi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685800" y="4114800"/>
            <a:ext cx="3124080" cy="2514600"/>
          </a:xfrm>
          <a:prstGeom prst="hexagon">
            <a:avLst>
              <a:gd name="adj" fmla="val 31059"/>
              <a:gd name="vf" fmla="val 11547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Honeycomb400x400"/>
          <p:cNvPicPr/>
          <p:nvPr/>
        </p:nvPicPr>
        <p:blipFill>
          <a:blip r:embed="rId1"/>
          <a:stretch/>
        </p:blipFill>
        <p:spPr>
          <a:xfrm>
            <a:off x="5791320" y="38098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pt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eptagon was found on one of the wegmans cakes. A heptagon is a 7 sided figure. The angle sum of a heptagon is 900.2 degrees. All the exterior angles of a heptagon are 128.6 degrees. This shape could not tile very easi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5" descr="heptagon"/>
          <p:cNvPicPr/>
          <p:nvPr/>
        </p:nvPicPr>
        <p:blipFill>
          <a:blip r:embed="rId1"/>
          <a:stretch/>
        </p:blipFill>
        <p:spPr>
          <a:xfrm>
            <a:off x="5486400" y="3962520"/>
            <a:ext cx="2666880" cy="2639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Nd9GcSChGT1hPbInWpdtZgp65LrYYqv5NiODJIwF1elzInGwoeBCtTpEA&amp;t=1"/>
          <p:cNvPicPr/>
          <p:nvPr/>
        </p:nvPicPr>
        <p:blipFill>
          <a:blip r:embed="rId2"/>
          <a:stretch/>
        </p:blipFill>
        <p:spPr>
          <a:xfrm>
            <a:off x="533520" y="3505320"/>
            <a:ext cx="29718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ct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agons are seen in every day life because stop sighs are octagons. A octagon is a 8 sided figure. The angle sum of a octagon is 1080 degrees. Also all the exterior angles of a octagon are 45 degrees. Also this shape could not tile very easi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2800440" cy="276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n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agons are seen in everyday life because there are baby blanket that are 9 sided. A nonagon is a figure with 9 sides. The angle sum of a nonagon is 1260 degrees. Also all the exterior angles of a nonagon are 40 degrees. Also this shape could til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295280" y="3733920"/>
            <a:ext cx="289872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334120" y="3733920"/>
            <a:ext cx="3493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cag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cagons are seen in everyday life because there are some stoves tops that are in the shape of a decagon. A decagon is a figure that has 10 sides. The angle sum of a decagon is 1440 degrees. All the exterior angles of a decagon are 36 degrees. This shape could not tile easily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264312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44:10Z</dcterms:created>
  <dc:creator>Franklin Township School</dc:creator>
  <dc:description/>
  <dc:language>en-US</dc:language>
  <cp:lastModifiedBy>Owner</cp:lastModifiedBy>
  <dcterms:modified xsi:type="dcterms:W3CDTF">2011-05-13T15:22:28Z</dcterms:modified>
  <cp:revision>25</cp:revision>
  <dc:subject/>
  <dc:title>Shapes and designs</dc:title>
</cp:coreProperties>
</file>